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E355-E492-4B42-82C7-3F437BED5E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E459-96C9-4FC2-8DF2-91EA834A4D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C18-7079-40C7-96E4-1352A00E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E58-897D-4A97-B57A-F3283F85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099-798F-4BFF-A3C5-51B127AC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99F4-2363-45E5-84DC-D9DEEBE0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866-8449-414E-8818-E6A50937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23C6-9DB7-490F-B578-E4E929FD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B97-D508-47AB-B729-94223311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C03-815D-49CC-B877-782510F6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0DDE-793C-4E41-BF4B-E22A9AE7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36CE-F93A-4AE4-A267-2A88C081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CFA-5BAC-4473-8DAC-2BA1AF34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718-D5CE-4545-A27C-CFBA8FFD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A568-39E7-4A5A-8B2F-117CC1E89E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itra.ru/biography/get/biid/00753731190800243808" TargetMode="External"/><Relationship Id="rId2" Type="http://schemas.openxmlformats.org/officeDocument/2006/relationships/hyperlink" Target="http://www.cofe.ru/read-ka/article.asp?heading=87&amp;article=8769" TargetMode="External"/><Relationship Id="rId3" Type="http://schemas.openxmlformats.org/officeDocument/2006/relationships/hyperlink" Target="http://www.proza.ru/pics/2010/06/30/266.jpg" TargetMode="External"/><Relationship Id="rId4" Type="http://schemas.openxmlformats.org/officeDocument/2006/relationships/hyperlink" Target="http://www.surwiki.ru/wiki/images/9/91/&#1044;&#1086;&#1084;%2C_&#1074;_&#1082;&#1086;&#1090;&#1086;&#1088;&#1086;&#1084;_&#1078;&#1080;&#1083;_&#1077;&#1088;&#1096;&#1086;&#1074;_&#1074;_1862-1869&#1075;&#1075;.jpg" TargetMode="External"/><Relationship Id="rId5" Type="http://schemas.openxmlformats.org/officeDocument/2006/relationships/hyperlink" Target="http://chron.eduhmao.ru/img_1_14_1_1.jpeg" TargetMode="External"/><Relationship Id="rId6" Type="http://schemas.openxmlformats.org/officeDocument/2006/relationships/hyperlink" Target="http://upload.wikimedia.org/wikipedia/commons/4/4b/Bryullov_portrait_of_Zhukovsky.jpg" TargetMode="External"/><Relationship Id="rId7" Type="http://schemas.openxmlformats.org/officeDocument/2006/relationships/hyperlink" Target="http://upload.wikimedia.org/wikipedia/commons/5/56/Kiprensky_Pushkin.jpg" TargetMode="External"/><Relationship Id="rId8" Type="http://schemas.openxmlformats.org/officeDocument/2006/relationships/hyperlink" Target="http://upload.wikimedia.org/wikipedia/commons/8/8d/MendeleevDI_Jaroishenko_1886.jpg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50020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ография и творчество </a:t>
            </a:r>
            <a:br>
              <a:rPr sz="44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ршова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тра Павловича</a:t>
            </a:r>
            <a:br>
              <a:rPr sz="32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Практический материал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к уроку литературного чтения 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4 класс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Любой УМК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785880" y="28584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№8  им. академика Н.Н. Боголюб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убны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571680" y="1500120"/>
            <a:ext cx="857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пружная Галина Петровна,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2428920" y="5929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Музей Ершова в г. Иш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1834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амятник в Тоболь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756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Список используемых Интернет-ресурсов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litra.ru/biography/get/biid/007537311908002438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cofe.ru/read-ka/article.asp?heading=87&amp;article=87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proza.ru/pics/2010/06/30/26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surwiki.ru/wiki/images/9/91/%D0%94%D0%BE%D0%BC%2C_%D0%B2_%D0%BA%D0%BE%D1%82%D0%BE%D1%80%D0%BE%D0%BC_%D0%B6%D0%B8%D0%BB_%D0%B5%D1%80%D1%88%D0%BE%D0%B2_%D0%B2_1862-1869%D0%B3%D0%B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chron.eduhmao.ru/img_1_14_1_1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овский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upload.wikimedia.org/wikipedia/commons/4/4b/Bryullov_portrait_of_Zhukovsk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ин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upload.wikimedia.org/wikipedia/commons/5/56/Kiprensky_Pushki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делеев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upload.wikimedia.org/wikipedia/commons/8/8d/MendeleevDI_Jaroishenko_188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Список используемых Интернет-ресурсов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rwiki.ru/wiki/images/a/a7/%D0%95%D1%80%D1%88%D0%BE%D0%B2_%D0%BC%D1%83%D0%B7%D0%B5%D0%B909_0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rwiki.ru/wiki/images/4/45/%D0%9F%D0%B0%D0%BC%D1%8F%D1%82%D0%BD%D0%B8%D0%BA_%D0%B5%D1%80%D1%88%D0%BE%D0%B2%D1%83_%D0%B2_%D1%82%D0%BE%D0%B1%D0%BE%D0%BB%D1%8C%D1%81%D0%BA%D0%B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obolsk.clan.su/_ph/4/2/32007377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lexgetti.narod.ru/imgu619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vlavochke.ru/upload/iblock/f3b/f3bf08aec57c074dcfd989a99e4d7a5f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ётр Павл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рш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>
            <a:hlinkClick r:id="rId1" action="ppaction://hlinksldjump"/>
          </p:cNvPr>
          <p:cNvSpPr/>
          <p:nvPr/>
        </p:nvSpPr>
        <p:spPr>
          <a:xfrm>
            <a:off x="4859280" y="1916280"/>
            <a:ext cx="464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15 г. – 186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76884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>
            <a:hlinkClick r:id="rId1" action="ppaction://hlinksldjump"/>
          </p:cNvPr>
          <p:cNvSpPr/>
          <p:nvPr/>
        </p:nvSpPr>
        <p:spPr>
          <a:xfrm>
            <a:off x="179280" y="0"/>
            <a:ext cx="896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 22 февраля 1815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ревне Безруково Ишимского уезда Тобольской губернии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 мелкого чиновни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2268360" y="2637000"/>
            <a:ext cx="5132520" cy="3722400"/>
          </a:xfrm>
          <a:prstGeom prst="rect">
            <a:avLst/>
          </a:prstGeom>
          <a:ln w="1260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1830 году окончил Тобольскую гимнази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667560" cy="4591080"/>
          </a:xfrm>
          <a:prstGeom prst="rect">
            <a:avLst/>
          </a:prstGeom>
          <a:ln w="1584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28760" y="18900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Ершов П.П. в 1831-1834 гг. учил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на философско-юридическом факультете Петербургского университ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83236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714240" y="28584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университете знакомится 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.А. Жуковским и А.С. Пушки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539640" y="2119320"/>
            <a:ext cx="3527640" cy="4281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859280" y="2133720"/>
            <a:ext cx="363528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714240" y="28584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Его учеником в Тобольской гимназии был Менделеев Д.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429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роизведение Ершова П.П. </a:t>
            </a:r>
            <a:br>
              <a:rPr sz="4000"/>
            </a:b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для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2976480" cy="415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5940360" y="2708280"/>
            <a:ext cx="2710080" cy="364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28130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Умер 30 августа 1869 г. в Тобольске. Похоронен на тобольском Завальном кладбище</a:t>
            </a:r>
            <a:br>
              <a:rPr sz="3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916360" y="1916280"/>
            <a:ext cx="3168360" cy="45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8:58:10Z</dcterms:created>
  <dc:creator>Galina</dc:creator>
  <dc:description/>
  <dc:language>en-US</dc:language>
  <cp:lastModifiedBy>Galina</cp:lastModifiedBy>
  <dcterms:modified xsi:type="dcterms:W3CDTF">2011-08-22T19:14:35Z</dcterms:modified>
  <cp:revision>100</cp:revision>
  <dc:subject/>
  <dc:title>Биография и творчество  Фёдора Ивановича Тютчева  3 класс 1 полугодие УМК «Школа России» </dc:title>
</cp:coreProperties>
</file>